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68D-3522-421C-B339-7F3FE9FA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DAE-89B5-4E20-BE92-CFF0E4AC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44D-F559-4276-9BE1-869A302D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8BF-22EB-4D2C-BDBD-1F1788DA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D02-51DF-44A4-A785-643163D1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174-AF7E-43A0-BB0E-226D17DC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3F02-3A27-4487-9254-BF5A7C44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2DB1-F759-4B72-9684-5BEFF9E2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A4F-25BC-4FCA-9F93-5AB0DEAC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836-AA4C-4AC9-BCA1-4C495230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FB4-432A-474C-9D33-B5ADE2DD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5A57-65B2-436B-862A-E7807DA0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9B06-53DD-4CD5-A92D-E4C4454B6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533520"/>
            <a:ext cx="4953240" cy="15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Our schoo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By Andrew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logo1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33526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school is Glenb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primar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ot an outdoor class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Tea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Wil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Da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Rob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Har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Matth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Dick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To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.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ide 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have a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have a harmony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ig 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ig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have a computer sw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off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hanging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kitc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8:45:23Z</dcterms:created>
  <dc:creator>Glenboi</dc:creator>
  <dc:description/>
  <dc:language>en-US</dc:language>
  <cp:lastModifiedBy>Glenboi</cp:lastModifiedBy>
  <dcterms:modified xsi:type="dcterms:W3CDTF">2009-09-30T08:46:06Z</dcterms:modified>
  <cp:revision>1</cp:revision>
  <dc:subject/>
  <dc:title>PowerPoint Presentation</dc:title>
</cp:coreProperties>
</file>